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228B-611F-41C2-A5AE-3E12C9A18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94E9-49DC-4224-8B3C-A033CBAC6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6F97-EB2F-4030-802D-B7454ACBB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C833-1F0A-430D-8622-EA7940064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E317-21EB-48BB-8EF1-269346F9E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1FF9-A40A-4BBF-AB78-CEE3A08D7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BF4F-048A-4AE1-8CE3-2FB302BCB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C105-37B0-4A4C-911C-2758B8A51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A4D5-5DF0-48CF-9B98-47ED17C11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F959-7AFF-485D-B417-8E1D615D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BAEB-440F-4E66-A20F-D62DAC63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275F-1CE2-44B9-BF2C-10474F50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78668-A7A1-4EFC-85CC-909F85C63E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469080" y="53352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inue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Rectangle 2" descr=""/>
          <p:cNvPicPr/>
          <p:nvPr/>
        </p:nvPicPr>
        <p:blipFill>
          <a:blip r:embed="rId1"/>
          <a:stretch/>
        </p:blipFill>
        <p:spPr>
          <a:xfrm>
            <a:off x="2359080" y="847800"/>
            <a:ext cx="4773600" cy="901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457200" y="2438280"/>
          <a:ext cx="8458200" cy="2133720"/>
        </p:xfrm>
        <a:graphic>
          <a:graphicData uri="http://schemas.openxmlformats.org/drawingml/2006/table">
            <a:tbl>
              <a:tblPr/>
              <a:tblGrid>
                <a:gridCol w="8458200"/>
              </a:tblGrid>
              <a:tr h="213480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Day 5:  Collaborate with members of the class on special holidays, food, and dress attire that you celebrate within your culture.  Two posts are required and due on Friday.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Using teacher’s blog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Rectangle 6"/>
          <p:cNvSpPr/>
          <p:nvPr/>
        </p:nvSpPr>
        <p:spPr>
          <a:xfrm>
            <a:off x="1447920" y="51814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ttp://gwentech.edublogs.org/2013/04/16/my-cultur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52280" y="1295280"/>
          <a:ext cx="8534520" cy="884520"/>
        </p:xfrm>
        <a:graphic>
          <a:graphicData uri="http://schemas.openxmlformats.org/drawingml/2006/table">
            <a:tbl>
              <a:tblPr/>
              <a:tblGrid>
                <a:gridCol w="8534520"/>
              </a:tblGrid>
              <a:tr h="88452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ea typeface="Times New Roman"/>
                        </a:rPr>
                        <a:t>You will have a week to complete the podcast project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Create a personal podcast on your culture-- include the following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228600" y="2514600"/>
          <a:ext cx="8458200" cy="3017880"/>
        </p:xfrm>
        <a:graphic>
          <a:graphicData uri="http://schemas.openxmlformats.org/drawingml/2006/table">
            <a:tbl>
              <a:tblPr/>
              <a:tblGrid>
                <a:gridCol w="8458200"/>
              </a:tblGrid>
              <a:tr h="3017880">
                <a:tc>
                  <a:txBody>
                    <a:bodyPr lIns="114480" rIns="1144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Day 1-2:  Discuss any special or important events about your culture e.g. dance, religion, food, holiday, dress attire, hairstyle, drinks, et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Day 3-4:  Work independently creating a podcast using iMovie video program. Include the following: at least four pictures, create two sounds using Garageband, create a voice narration using iMovie for each picture, and add transition to each picture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Day 5:  Render movie, save it in your personal folder on your desktop, and import on teacher’s blog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7" name="Rectangle 5" descr=""/>
          <p:cNvPicPr/>
          <p:nvPr/>
        </p:nvPicPr>
        <p:blipFill>
          <a:blip r:embed="rId1"/>
          <a:stretch/>
        </p:blipFill>
        <p:spPr>
          <a:xfrm>
            <a:off x="1968480" y="6480"/>
            <a:ext cx="5091120" cy="9079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"/>
          <p:cNvSpPr/>
          <p:nvPr/>
        </p:nvSpPr>
        <p:spPr>
          <a:xfrm>
            <a:off x="4449600" y="90360"/>
            <a:ext cx="24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1447920" y="62118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http://multimediaactivtyga.wikispaces.com/Rubric+for+Podca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8"/>
          <p:cNvSpPr/>
          <p:nvPr/>
        </p:nvSpPr>
        <p:spPr>
          <a:xfrm>
            <a:off x="1143000" y="56386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CLICK LINK BELOW TO VIEW RUBRIC FOR POD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9T00:05:41Z</dcterms:created>
  <dc:creator>HISD</dc:creator>
  <dc:description/>
  <dc:language>en-US</dc:language>
  <cp:lastModifiedBy>HISD</cp:lastModifiedBy>
  <dcterms:modified xsi:type="dcterms:W3CDTF">2013-04-16T23:37:42Z</dcterms:modified>
  <cp:revision>13</cp:revision>
  <dc:subject/>
  <dc:title>Slide 1</dc:title>
</cp:coreProperties>
</file>